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8C4-B918-47FE-B7E1-4E3C6EAB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0A7-0C43-44A0-8B3A-5C714552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E69-C135-4DC2-8A6E-13D5B83F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564-3A30-485B-AADA-ED2018E1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E79-9EE5-4CE6-B072-D6C66BAF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2C63-0BA4-4B56-864F-272B81FB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8772-F2DC-4B79-AC68-DF29004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87BC-A55A-4ED0-901C-1D2126C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58B-5ECE-4865-B8B5-125AFB97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022C-4615-429A-8245-AAC7A372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9C04-1D38-40E9-AF45-2595E6E6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4CC0-70F8-4659-BA4B-612CFAE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01D6-BDD9-46A2-8BA6-79FA184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FAD2-6454-4305-9038-71FD947D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859-DB4C-423B-ABAD-EA6354C6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A2B9-6EF3-4636-AF0F-73E9A5C7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1E20-9146-4D5E-8F1B-36291F8E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F58-9B6B-462C-9A16-E502765C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2AA6-D71C-4A09-A57E-B9ACD6F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B43-55F2-4656-9D5E-6669A5D6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FBB4-5DA2-4F9E-B4DA-4E2D937A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138-D51D-4FB2-8307-3656DCDD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ABB-0161-41F4-BB4F-585A19E8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F30-9B4B-4C27-8084-98DEF144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3BCA-4959-48F5-A1DF-EA2472D3D6D2}" type="datetime">
              <a:rPr b="0" lang="hu-HU" sz="1000" spc="-1" strike="noStrike">
                <a:solidFill>
                  <a:srgbClr val="000000"/>
                </a:solidFill>
                <a:latin typeface="Tahoma"/>
              </a:rPr>
              <a:t>26.07.28.</a:t>
            </a:fld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DR SZALAI ERZSÉB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C9E-5296-4502-88D9-2D781CDFE250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B58-23F2-40D4-8A7B-9944AF8ABDE3}" type="datetime">
              <a:rPr b="0" lang="hu-HU" sz="1000" spc="-1" strike="noStrike">
                <a:solidFill>
                  <a:srgbClr val="ffffff"/>
                </a:solidFill>
                <a:latin typeface="Tahoma"/>
              </a:rPr>
              <a:t>26.07.28.</a:t>
            </a:fld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DB69-18C0-4B72-A931-A1DBC7B4A305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hu/imgres?imgurl=http://www.eandh.hu/pic/fizetesi_meghagyas_penz.jpg&amp;imgrefurl=http://www.eandh.hu/kovetelesbehajtas/fizetesi_meghagyas.php&amp;h=200&amp;w=250&amp;sz=9&amp;hl=hu&amp;start=15&amp;tbnid=d-7jJVblUKeTiM:&amp;tbnh=89&amp;tbnw=111&amp;prev=/images%3Fq%3Dp%25C3%25A9nz%26gbv%3D2%26ndsp%3D20%26hl%3Dhu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000"/>
                </a:solidFill>
                <a:latin typeface="Tahoma"/>
              </a:rPr>
              <a:t>A GAZDASÁGI REKLÁMTEVÉKENYSÉG ALAPVETŐ FELTÉTELEI ÉS KORLÁTAI</a:t>
            </a:r>
            <a:r>
              <a:rPr b="1" lang="hu-HU" sz="4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2008. évi XLVIII. törvé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a gazdasági reklámtevékenység alapvető feltételeiről és egyes korlátairó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A reklámközvetítő a reklámozótól díjra jogosult, amelynek mértéke a reklám közzétételi díjának - az éppen aktuális jogi szabályozásnak  megfelelő - %-a  </a:t>
            </a:r>
            <a:r>
              <a:rPr b="1" i="1" lang="hu-HU" sz="1600" spc="-1" strike="noStrike">
                <a:solidFill>
                  <a:srgbClr val="ffffff"/>
                </a:solidFill>
                <a:latin typeface="Tahoma"/>
              </a:rPr>
              <a:t>(15%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778356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Ha a termék előzetes minőségvizsgálati </a:t>
            </a:r>
            <a:r>
              <a:rPr b="0" lang="hu-HU" sz="2800" spc="-1" strike="noStrike">
                <a:solidFill>
                  <a:srgbClr val="eaeaea"/>
                </a:solidFill>
                <a:latin typeface="Tahoma"/>
              </a:rPr>
              <a:t>vagy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megfelelőség tanúsítási kötelezettség alá tartozó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reklámozó köteles a reklámszolgáltatónak( vagy  közzétevőjének)  </a:t>
            </a:r>
            <a:r>
              <a:rPr b="1" lang="hu-HU" sz="2400" spc="-1" strike="noStrike" u="sng">
                <a:solidFill>
                  <a:srgbClr val="ffcc00"/>
                </a:solidFill>
                <a:uFillTx/>
                <a:latin typeface="Tahoma"/>
              </a:rPr>
              <a:t>nyilatkozni </a:t>
            </a: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arról, hogy a vizsgálatot elvégezték és annak alapján a termék forgalomba hozhat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Nyilatkozat elmaradt ?     nem tehető közz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reklámszolgáltató, közzétevő fentiekről nyilvántartást köteles vezetni, és a közzétételétől 5 évig megőriz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szabadtéri reklámhordoz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közzétevő </a:t>
            </a:r>
            <a:r>
              <a:rPr b="0" lang="hu-HU" sz="3200" spc="-1" strike="noStrike">
                <a:solidFill>
                  <a:srgbClr val="ffcc00"/>
                </a:solidFill>
                <a:latin typeface="Tahoma"/>
              </a:rPr>
              <a:t>köteles feltüntetni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cégnevét, (nevé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zékhelyét (lakóhelyé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Tahoma"/>
              </a:rPr>
              <a:t>xxxxxxx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2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907560"/>
            <a:ext cx="75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Főszabályként </a:t>
            </a:r>
            <a:r>
              <a:rPr b="1" lang="hu-HU" sz="3200" spc="-1" strike="noStrike">
                <a:solidFill>
                  <a:srgbClr val="66ccff"/>
                </a:solidFill>
                <a:latin typeface="Tahoma"/>
              </a:rPr>
              <a:t>reklám természetes személynek mint címzettjének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közvetlen megkeresése módszerével (</a:t>
            </a:r>
            <a:r>
              <a:rPr b="0" lang="hu-HU" sz="3200" spc="-1" strike="noStrike">
                <a:solidFill>
                  <a:srgbClr val="ffcc00"/>
                </a:solidFill>
                <a:latin typeface="Tahoma"/>
              </a:rPr>
              <a:t>közvetlen üzletszerzés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), így különösen elektronikus levelezés vagy azzal egyenértékű más egyéni kommunikációs eszköz útján -  akkor közölhető, ha ahhoz a reklám </a:t>
            </a:r>
            <a:r>
              <a:rPr b="0" lang="hu-HU" sz="3200" spc="-1" strike="noStrike">
                <a:solidFill>
                  <a:srgbClr val="ffcc00"/>
                </a:solidFill>
                <a:latin typeface="Tahoma"/>
              </a:rPr>
              <a:t>címzettje előzetesen egyértelműen és kifejezetten hozzájárul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VISSZAVONHAT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000"/>
                </a:solidFill>
                <a:latin typeface="Tahoma"/>
              </a:rPr>
              <a:t>Reklámtilalmak és reklámkorlátozások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 Pl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0000"/>
                </a:solidFill>
                <a:latin typeface="Tahoma"/>
              </a:rPr>
              <a:t>Tilo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az a reklám ame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rőszakos, személyes vagy a közbiztonságot veszélyeztető magatartásra ösztönö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rnyezetet,  természetet károsító magatartásra ösztönö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gyermek- és fiatalkorúak fizikai, szellemi, érzelmi vagy erkölcsi fejlődését károsíthat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32000" y="153000"/>
            <a:ext cx="7278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87280" y="1125000"/>
            <a:ext cx="7423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ilos gyermek-, fiatalkorúaknak szóló reklám, amely eleme az erőszakos módon megoldott konflik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gyermek- vagy fiatalkorút veszélyes, erőszakos vagy a szexualitást hangsúlyozó helyzetben mutat b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ábrázolások,animáció,csillagok,csukott szemek,emberek,gyerekek,kölykök,lezárt szemek,manga,személyek"/>
          <p:cNvPicPr/>
          <p:nvPr/>
        </p:nvPicPr>
        <p:blipFill>
          <a:blip r:embed="rId1"/>
          <a:stretch/>
        </p:blipFill>
        <p:spPr>
          <a:xfrm>
            <a:off x="5508720" y="2708280"/>
            <a:ext cx="1224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HOL TILOS A REKLÁM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általános iskolai tanulókat fogadó kollégium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Táblát törlő nő"/>
          <p:cNvPicPr/>
          <p:nvPr/>
        </p:nvPicPr>
        <p:blipFill>
          <a:blip r:embed="rId1"/>
          <a:stretch/>
        </p:blipFill>
        <p:spPr>
          <a:xfrm>
            <a:off x="4572000" y="414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Napközis gyerekek"/>
          <p:cNvPicPr/>
          <p:nvPr/>
        </p:nvPicPr>
        <p:blipFill>
          <a:blip r:embed="rId2"/>
          <a:stretch/>
        </p:blipFill>
        <p:spPr>
          <a:xfrm>
            <a:off x="1116000" y="4221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IVÉTEL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1628280"/>
            <a:ext cx="7567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egészséges életmódra és a környezet védelmére neveléssel összefüggő reklám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zéleti és kulturális tevékenység vagy esemény reklám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ktatási tevékenység reklámj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szponzor nevének, védjegyének vagy egyéb megjelölésének az adott tevékenységgel, eseménnyel közvetlenül összefüggő megjeleníté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116640"/>
            <a:ext cx="7567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560" y="836280"/>
            <a:ext cx="7567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szex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uális szolgáltatás reklám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ornográfrek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mely rendeltetése szerint szexuális ingerkeltésre irányu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(KIVÉTEL: szexuális terméken, ill. ilyen üzletén belül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z  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árubemutatóval egybekötött termékértékesítéshez kapcsolódóa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ajándék juttatás, árengedmény, kedvezmény, vagyoni előny és ajándéksorsolás reklámj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tudatosan nem észlelhető rek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86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Tahoma"/>
              </a:rPr>
              <a:t>Tilos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egyver, lőszer, robbanóanyag, közbiztonságra különösen veszélyes eszköz reklám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(kivéte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állatviadal reklám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veszélyes eb reklám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mberi szervet, szövetet bármilyen felhasználás céljára reklámoz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rhesség megszakítás és azzal kapcsolatos rekl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8" descr="Részletek"/>
          <p:cNvPicPr/>
          <p:nvPr/>
        </p:nvPicPr>
        <p:blipFill>
          <a:blip r:embed="rId1"/>
          <a:stretch/>
        </p:blipFill>
        <p:spPr>
          <a:xfrm>
            <a:off x="7451640" y="184464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Vicsorgó kutya közelről"/>
          <p:cNvPicPr/>
          <p:nvPr/>
        </p:nvPicPr>
        <p:blipFill>
          <a:blip r:embed="rId2"/>
          <a:stretch/>
        </p:blipFill>
        <p:spPr>
          <a:xfrm>
            <a:off x="5270400" y="2587680"/>
            <a:ext cx="17272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Törvény nem foglalkozi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 megtévesztő reklám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összehasonlító reklám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OK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: Tpvt.  A tisztességtelen verseny tilalma összehasonlító reklá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ALKOHOLTARTALMÚ ITAL REKLÁMOZÁS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me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gyermek-, illetve fiatalkorúaknak szól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gyermek- vagy fiatalkorút mutat b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lkoholtartalmú ital mértéktelen fogyasztására ösztönöz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14" descr="350px-Alcoholic_beverages_montage[1]"/>
          <p:cNvPicPr/>
          <p:nvPr/>
        </p:nvPicPr>
        <p:blipFill>
          <a:blip r:embed="rId1"/>
          <a:stretch/>
        </p:blipFill>
        <p:spPr>
          <a:xfrm>
            <a:off x="1547640" y="4516560"/>
            <a:ext cx="2335320" cy="1282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220px-Red_Wine_Glass[1]"/>
          <p:cNvPicPr/>
          <p:nvPr/>
        </p:nvPicPr>
        <p:blipFill>
          <a:blip r:embed="rId2"/>
          <a:stretch/>
        </p:blipFill>
        <p:spPr>
          <a:xfrm>
            <a:off x="7236000" y="3860640"/>
            <a:ext cx="93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66320" y="1341000"/>
            <a:ext cx="75438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a dohánytermék reklámja  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közvetett is!!!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kivétel: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forgalmazással, felhasználásával hivatásszerűen foglalkozó személyek számára szóló szakmai célú reklá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z igaz többek között az -cigarettára, pipár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Vizipipára, dohányzást helyettesítő nikotin-tartalmú termékre 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Élőláb helye 3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6" descr="Részletek"/>
          <p:cNvPicPr/>
          <p:nvPr/>
        </p:nvPicPr>
        <p:blipFill>
          <a:blip r:embed="rId1"/>
          <a:stretch/>
        </p:blipFill>
        <p:spPr>
          <a:xfrm>
            <a:off x="6156360" y="4491000"/>
            <a:ext cx="20160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18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6632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a gyermek-, illetve fiatalkorúak szerencsejátékban való részvételére felszólító reklá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özzétenni szerencsejátékhoz kapcsolódó reklámot olyan sajtótermékben, amely alapvetően gyermek-, illetve fiatalkorúakhoz szó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özzétenni olyan reklámot, amely a szerencsejáték felügyeleti hatóság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ngedélye nélkül szervezett szerencsejátékot népszerűsít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7" descr="Részletek"/>
          <p:cNvPicPr/>
          <p:nvPr/>
        </p:nvPicPr>
        <p:blipFill>
          <a:blip r:embed="rId1"/>
          <a:stretch/>
        </p:blipFill>
        <p:spPr>
          <a:xfrm>
            <a:off x="6324480" y="479520"/>
            <a:ext cx="1800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közzétenni </a:t>
            </a:r>
            <a:r>
              <a:rPr b="0" lang="hu-HU" sz="2800" spc="-1" strike="noStrike">
                <a:solidFill>
                  <a:srgbClr val="ffcc00"/>
                </a:solidFill>
                <a:latin typeface="Tahoma"/>
              </a:rPr>
              <a:t>temetkezési szolgáltatás reklámjá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gészségügyi intézmény területén, épületének falán és kerítésé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Stb…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Élőláb helye 3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8" descr="betegagy_gyimesi08_gs[1]"/>
          <p:cNvPicPr/>
          <p:nvPr/>
        </p:nvPicPr>
        <p:blipFill>
          <a:blip r:embed="rId1"/>
          <a:stretch/>
        </p:blipFill>
        <p:spPr>
          <a:xfrm>
            <a:off x="6443640" y="4797360"/>
            <a:ext cx="1944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ZANKCIÓ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z okozott kárért a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ahoma"/>
              </a:rPr>
              <a:t>reklámozó,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ahoma"/>
              </a:rPr>
              <a:t>reklámszolgáltató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és a reklám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ahoma"/>
              </a:rPr>
              <a:t>közzétevője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egyetemlegesen felel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- FOGY.VÉD.HATÓSÁ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- MN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Nemzeti Média- és Hírközlési Hatóság   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is eljá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Szerencsejáték Felügye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Eljárás a  jogsértés bekövetkeztétől 3 éven túl nem indíthat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fizetesi_meghagyas_pen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836640"/>
            <a:ext cx="1944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olgári jogi  igény esetén a bírói ú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REKLÁMADÓ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külön törvényben foglaltak szer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4" descr="MPj04049520000[1]"/>
          <p:cNvPicPr/>
          <p:nvPr/>
        </p:nvPicPr>
        <p:blipFill>
          <a:blip r:embed="rId1"/>
          <a:stretch/>
        </p:blipFill>
        <p:spPr>
          <a:xfrm>
            <a:off x="6372360" y="2637000"/>
            <a:ext cx="23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0000"/>
                </a:solidFill>
                <a:latin typeface="Tahoma"/>
              </a:rPr>
              <a:t>MIRE/ KIKRE  TERJED KI A REKLÁM Tv?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reklámozókén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reklám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szolgáltatóként,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reklám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közzétevőjeként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végzett gazdasági     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reklámtevékenység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szponzorálás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reklámközvetítésr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a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médiahirdetési felületek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(reklámhelyek)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értékesítésér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ezek tekintetében alkalmazott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magatartási kódexek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419640" y="1413000"/>
            <a:ext cx="67140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AZDASÁGI REKLÁ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=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olyan közlés, tájékoztatás, illetve megjelenítési mód, amely valamely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termék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-, szolgáltatás, ingatlan, vagyoni értékű jog (azaz 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áru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értékesítés</a:t>
            </a: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éne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 vagy más módon történő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 igénybevételének előmozdításár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 vagy e céllal összefüggésben a vállalkozás neve, megjelölése, tevékenysége népszerűsítésére vagy áru, árujelző 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ismertségének növelésére irányu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eaeaea"/>
                </a:solidFill>
                <a:latin typeface="Tahoma"/>
              </a:rPr>
              <a:t>MIKOR TEHETŐ KÖZZÉ A REKLÁM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21081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a a 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reklámozó </a:t>
            </a: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 megrendeléskor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a 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reklámszolgáltató</a:t>
            </a:r>
            <a:r>
              <a:rPr b="0" lang="hu-H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részére</a:t>
            </a: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megadja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a</a:t>
            </a:r>
            <a:r>
              <a:rPr b="0" lang="hu-HU" sz="24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66ccff"/>
                </a:solidFill>
                <a:latin typeface="Tahoma"/>
              </a:rPr>
              <a:t>-  cégnevét,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(nevét)</a:t>
            </a:r>
            <a:r>
              <a:rPr b="1" lang="hu-HU" sz="24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1" lang="hu-HU" sz="2400" spc="-1" strike="noStrike">
                <a:solidFill>
                  <a:srgbClr val="66ccff"/>
                </a:solidFill>
                <a:latin typeface="Tahoma"/>
              </a:rPr>
              <a:t> székhelyét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(lakóhelyét)</a:t>
            </a:r>
            <a:r>
              <a:rPr b="1" lang="hu-HU" sz="2400" spc="-1" strike="noStrike">
                <a:solidFill>
                  <a:srgbClr val="66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az</a:t>
            </a:r>
            <a:r>
              <a:rPr b="1" lang="hu-HU" sz="2400" spc="-1" strike="noStrike">
                <a:solidFill>
                  <a:srgbClr val="66ccff"/>
                </a:solidFill>
                <a:latin typeface="Tahoma"/>
              </a:rPr>
              <a:t> adószámá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gyros-785x532"/>
          <p:cNvPicPr/>
          <p:nvPr/>
        </p:nvPicPr>
        <p:blipFill>
          <a:blip r:embed="rId1"/>
          <a:stretch/>
        </p:blipFill>
        <p:spPr>
          <a:xfrm>
            <a:off x="5796000" y="4292640"/>
            <a:ext cx="228132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4"/>
          <p:cNvSpPr/>
          <p:nvPr/>
        </p:nvSpPr>
        <p:spPr>
          <a:xfrm>
            <a:off x="3429000" y="1711440"/>
            <a:ext cx="671400" cy="53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304560"/>
            <a:ext cx="735156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ALAPFOGALMA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42560" y="1125000"/>
            <a:ext cx="7567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Tahoma"/>
              </a:rPr>
              <a:t>reklámozó: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akinek érdekében a reklámot közzéteszik, illetve aki a reklámot megrendel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000"/>
                </a:solidFill>
                <a:latin typeface="Tahoma"/>
              </a:rPr>
              <a:t>reklámszolgáltató: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aki önálló gazdasági tevékenysége körében a </a:t>
            </a:r>
            <a:r>
              <a:rPr b="0" lang="hu-HU" sz="2400" spc="-1" strike="noStrike">
                <a:solidFill>
                  <a:srgbClr val="66ccff"/>
                </a:solidFill>
                <a:latin typeface="Tahoma"/>
              </a:rPr>
              <a:t>reklámot megalkotja, létrehozza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illetve ezzel összefüggésben </a:t>
            </a:r>
            <a:r>
              <a:rPr b="0" lang="hu-HU" sz="2400" spc="-1" strike="noStrike">
                <a:solidFill>
                  <a:srgbClr val="66ccff"/>
                </a:solidFill>
                <a:latin typeface="Tahoma"/>
              </a:rPr>
              <a:t>egyéb szolgáltatást nyújt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000"/>
                </a:solidFill>
                <a:latin typeface="Tahoma"/>
              </a:rPr>
              <a:t>reklám közzétevője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ki a reklám közzétételére alkalmas eszközökkel rendelkezik és ezek segítségével a </a:t>
            </a:r>
            <a:r>
              <a:rPr b="0" lang="hu-HU" sz="2400" spc="-1" strike="noStrike">
                <a:solidFill>
                  <a:srgbClr val="66ccff"/>
                </a:solidFill>
                <a:latin typeface="Tahoma"/>
              </a:rPr>
              <a:t>reklámot megismerhetővé teszi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11052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981000"/>
            <a:ext cx="75438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médiahirdetésifelület-értékesítő</a:t>
            </a:r>
            <a:r>
              <a:rPr b="0" lang="hu-HU" sz="2800" spc="-1" strike="noStrike">
                <a:solidFill>
                  <a:srgbClr val="ffcc00"/>
                </a:solidFill>
                <a:latin typeface="Tahoma"/>
              </a:rPr>
              <a:t>: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a reklám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közzétevőjének megbízása alapjá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eljáró személy,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(természetes szem, jogi személy, jogi személyiséggel nem rendelkező szervezet)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mely a reklám közzétevője nevében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hirdetési felületet értékesít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 a reklámközvetítő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illetve a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reklámozó fel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reklámközvetítés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 reklámozóval kötött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közvetítői szerződés alapján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a reklám közzétételére irányuló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szerződés megkötésének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elősegítésére irányuló tevékenység, ide nem értve a reklámszolgáltatási tevékenysé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reklámközvetítő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reklámközvetítést végző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természetes személy, jogi személy vagy jogi személyiséggel nem rendelkező szerveze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III.30.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közzététel: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a reklám megismerhetővé tétele, akár nagyobb nyilvánosság, akár egyedi címzett számá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reklám címzettje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: aki felé a reklám irányul, illetve akihez a reklám eljut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20Z</dcterms:created>
  <dc:creator>PSZFB</dc:creator>
  <dc:description/>
  <dc:language>en-US</dc:language>
  <cp:lastModifiedBy>dr. Szalai Erzsébet</cp:lastModifiedBy>
  <dcterms:modified xsi:type="dcterms:W3CDTF">2020-07-12T14:33:25Z</dcterms:modified>
  <cp:revision>157</cp:revision>
  <dc:subject/>
  <dc:title>4. Témakör </dc:title>
</cp:coreProperties>
</file>